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97DB-F892-4E38-B730-AEF8A30B0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8550-2B63-4038-A8EB-9CDA9F62B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8AC1-FA42-45AE-A53F-61B28C5C8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4C75-4355-47AF-9323-45B23693D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5224-D71A-4222-A51A-67E22D7E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0CBA-796D-4954-BAC8-277D58F11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BA3E-C805-4D5C-A5AD-CF0CAF854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74E8-F5F0-48AD-8504-BE8DF8909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5000-8CFA-4F8E-A722-9C8103383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9251-DE8B-49B2-9720-7B6E5E50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D2F1-0465-4490-A3C1-7A9AC50C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A552-40E0-4F40-841F-3CC5AD9B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75ABF-213C-45FA-9851-E3A491380F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00000" y="3716280"/>
            <a:ext cx="6705720" cy="914400"/>
            <a:chOff x="900000" y="3716280"/>
            <a:chExt cx="6705720" cy="914400"/>
          </a:xfrm>
        </p:grpSpPr>
        <p:sp>
          <p:nvSpPr>
            <p:cNvPr id="42" name=""/>
            <p:cNvSpPr/>
            <p:nvPr/>
          </p:nvSpPr>
          <p:spPr>
            <a:xfrm>
              <a:off x="900000" y="3716280"/>
              <a:ext cx="6705720" cy="9144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" name=""/>
                <p:cNvSpPr txBox="1"/>
                <p:nvPr/>
              </p:nvSpPr>
              <p:spPr>
                <a:xfrm>
                  <a:off x="1128600" y="3944880"/>
                  <a:ext cx="446040" cy="52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4" name=""/>
            <p:cNvSpPr/>
            <p:nvPr/>
          </p:nvSpPr>
          <p:spPr>
            <a:xfrm>
              <a:off x="2119320" y="39448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動作関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3635280" y="3789360"/>
                  <a:ext cx="3673440" cy="73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Σ</m:t>
                      </m:r>
                      <m:r>
                        <m:t xml:space="preserve">∪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ε</m:t>
                          </m:r>
                        </m:e>
                      </m:d>
                      <m:r>
                        <m:t xml:space="preserve">)</m:t>
                      </m:r>
                      <m:r>
                        <m:t xml:space="preserve">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Q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6" name=""/>
          <p:cNvSpPr/>
          <p:nvPr/>
        </p:nvSpPr>
        <p:spPr>
          <a:xfrm>
            <a:off x="1763640" y="404640"/>
            <a:ext cx="53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空動作のある非決定性有限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2484360" y="981000"/>
                <a:ext cx="396252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8" name=""/>
          <p:cNvGrpSpPr/>
          <p:nvPr/>
        </p:nvGrpSpPr>
        <p:grpSpPr>
          <a:xfrm>
            <a:off x="900000" y="2060640"/>
            <a:ext cx="6705360" cy="609480"/>
            <a:chOff x="900000" y="2060640"/>
            <a:chExt cx="6705360" cy="609480"/>
          </a:xfrm>
        </p:grpSpPr>
        <p:sp>
          <p:nvSpPr>
            <p:cNvPr id="49" name=""/>
            <p:cNvSpPr/>
            <p:nvPr/>
          </p:nvSpPr>
          <p:spPr>
            <a:xfrm>
              <a:off x="900000" y="2060640"/>
              <a:ext cx="6705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" name=""/>
                <p:cNvSpPr txBox="1"/>
                <p:nvPr/>
              </p:nvSpPr>
              <p:spPr>
                <a:xfrm>
                  <a:off x="1052280" y="2060640"/>
                  <a:ext cx="4874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1" name=""/>
            <p:cNvSpPr/>
            <p:nvPr/>
          </p:nvSpPr>
          <p:spPr>
            <a:xfrm>
              <a:off x="2118960" y="213696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900000" y="2924280"/>
            <a:ext cx="6705360" cy="609480"/>
            <a:chOff x="900000" y="2924280"/>
            <a:chExt cx="6705360" cy="609480"/>
          </a:xfrm>
        </p:grpSpPr>
        <p:sp>
          <p:nvSpPr>
            <p:cNvPr id="53" name=""/>
            <p:cNvSpPr/>
            <p:nvPr/>
          </p:nvSpPr>
          <p:spPr>
            <a:xfrm>
              <a:off x="900000" y="2924280"/>
              <a:ext cx="6705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" name=""/>
                <p:cNvSpPr txBox="1"/>
                <p:nvPr/>
              </p:nvSpPr>
              <p:spPr>
                <a:xfrm>
                  <a:off x="1128600" y="3000240"/>
                  <a:ext cx="406440" cy="48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5" name=""/>
            <p:cNvSpPr/>
            <p:nvPr/>
          </p:nvSpPr>
          <p:spPr>
            <a:xfrm>
              <a:off x="2118960" y="300024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入力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900000" y="4797360"/>
            <a:ext cx="6705360" cy="685800"/>
            <a:chOff x="900000" y="4797360"/>
            <a:chExt cx="6705360" cy="685800"/>
          </a:xfrm>
        </p:grpSpPr>
        <p:sp>
          <p:nvSpPr>
            <p:cNvPr id="57" name=""/>
            <p:cNvSpPr/>
            <p:nvPr/>
          </p:nvSpPr>
          <p:spPr>
            <a:xfrm>
              <a:off x="900000" y="4873320"/>
              <a:ext cx="670536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" name=""/>
                <p:cNvSpPr txBox="1"/>
                <p:nvPr/>
              </p:nvSpPr>
              <p:spPr>
                <a:xfrm>
                  <a:off x="1128600" y="4797360"/>
                  <a:ext cx="52848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9" name=""/>
            <p:cNvSpPr/>
            <p:nvPr/>
          </p:nvSpPr>
          <p:spPr>
            <a:xfrm>
              <a:off x="2195280" y="494964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初期状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"/>
                <p:cNvSpPr txBox="1"/>
                <p:nvPr/>
              </p:nvSpPr>
              <p:spPr>
                <a:xfrm>
                  <a:off x="4100400" y="4797360"/>
                  <a:ext cx="129996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" name=""/>
          <p:cNvGrpSpPr/>
          <p:nvPr/>
        </p:nvGrpSpPr>
        <p:grpSpPr>
          <a:xfrm>
            <a:off x="900000" y="5661000"/>
            <a:ext cx="6705360" cy="611280"/>
            <a:chOff x="900000" y="5661000"/>
            <a:chExt cx="6705360" cy="611280"/>
          </a:xfrm>
        </p:grpSpPr>
        <p:sp>
          <p:nvSpPr>
            <p:cNvPr id="62" name=""/>
            <p:cNvSpPr/>
            <p:nvPr/>
          </p:nvSpPr>
          <p:spPr>
            <a:xfrm>
              <a:off x="900000" y="5661000"/>
              <a:ext cx="670536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" name=""/>
                <p:cNvSpPr txBox="1"/>
                <p:nvPr/>
              </p:nvSpPr>
              <p:spPr>
                <a:xfrm>
                  <a:off x="1128600" y="5737320"/>
                  <a:ext cx="48708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4" name=""/>
            <p:cNvSpPr/>
            <p:nvPr/>
          </p:nvSpPr>
          <p:spPr>
            <a:xfrm>
              <a:off x="2195280" y="573732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受理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5395680" y="5661000"/>
                  <a:ext cx="1300320" cy="61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⊆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6" name=""/>
          <p:cNvSpPr/>
          <p:nvPr/>
        </p:nvSpPr>
        <p:spPr>
          <a:xfrm>
            <a:off x="4716360" y="3645000"/>
            <a:ext cx="1656000" cy="1079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7020000" y="2852640"/>
            <a:ext cx="1152360" cy="792360"/>
            <a:chOff x="7020000" y="2852640"/>
            <a:chExt cx="1152360" cy="792360"/>
          </a:xfrm>
        </p:grpSpPr>
        <p:sp>
          <p:nvSpPr>
            <p:cNvPr id="68" name=""/>
            <p:cNvSpPr/>
            <p:nvPr/>
          </p:nvSpPr>
          <p:spPr>
            <a:xfrm>
              <a:off x="7020000" y="2852640"/>
              <a:ext cx="1152360" cy="792360"/>
            </a:xfrm>
            <a:prstGeom prst="wedgeRoundRectCallout">
              <a:avLst>
                <a:gd name="adj1" fmla="val -111157"/>
                <a:gd name="adj2" fmla="val 75652"/>
                <a:gd name="adj3" fmla="val 16667"/>
              </a:avLst>
            </a:prstGeom>
            <a:solidFill>
              <a:srgbClr val="ffff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116840" y="3011400"/>
              <a:ext cx="91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注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6" name=""/>
          <p:cNvSpPr/>
          <p:nvPr/>
        </p:nvSpPr>
        <p:spPr>
          <a:xfrm>
            <a:off x="250920" y="18900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よって，入力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に対して２つの遷移の可能性があるが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125892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58920" y="2492280"/>
            <a:ext cx="1873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6372360" y="981000"/>
            <a:ext cx="685440" cy="1067040"/>
            <a:chOff x="6372360" y="981000"/>
            <a:chExt cx="685440" cy="1067040"/>
          </a:xfrm>
        </p:grpSpPr>
        <p:sp>
          <p:nvSpPr>
            <p:cNvPr id="341" name=""/>
            <p:cNvSpPr/>
            <p:nvPr/>
          </p:nvSpPr>
          <p:spPr>
            <a:xfrm>
              <a:off x="6372360" y="981000"/>
              <a:ext cx="68544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6934680" y="1662120"/>
              <a:ext cx="10188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6300720" y="1844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346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7" name=""/>
          <p:cNvSpPr/>
          <p:nvPr/>
        </p:nvSpPr>
        <p:spPr>
          <a:xfrm flipV="1">
            <a:off x="125892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258920" y="2492280"/>
            <a:ext cx="1873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6372360" y="981000"/>
            <a:ext cx="685440" cy="1067040"/>
            <a:chOff x="6372360" y="981000"/>
            <a:chExt cx="685440" cy="1067040"/>
          </a:xfrm>
        </p:grpSpPr>
        <p:sp>
          <p:nvSpPr>
            <p:cNvPr id="371" name=""/>
            <p:cNvSpPr/>
            <p:nvPr/>
          </p:nvSpPr>
          <p:spPr>
            <a:xfrm>
              <a:off x="6372360" y="981000"/>
              <a:ext cx="68544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934680" y="1662120"/>
              <a:ext cx="101880" cy="289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6300720" y="184464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376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7" name=""/>
          <p:cNvSpPr/>
          <p:nvPr/>
        </p:nvSpPr>
        <p:spPr>
          <a:xfrm flipV="1">
            <a:off x="197964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979640" y="2492280"/>
            <a:ext cx="1152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6372360" y="981000"/>
            <a:ext cx="685440" cy="1067040"/>
            <a:chOff x="6372360" y="981000"/>
            <a:chExt cx="685440" cy="1067040"/>
          </a:xfrm>
        </p:grpSpPr>
        <p:sp>
          <p:nvSpPr>
            <p:cNvPr id="401" name=""/>
            <p:cNvSpPr/>
            <p:nvPr/>
          </p:nvSpPr>
          <p:spPr>
            <a:xfrm>
              <a:off x="6372360" y="981000"/>
              <a:ext cx="68544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6934680" y="1662120"/>
              <a:ext cx="101880" cy="289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6300720" y="184464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406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7" name=""/>
          <p:cNvSpPr/>
          <p:nvPr/>
        </p:nvSpPr>
        <p:spPr>
          <a:xfrm>
            <a:off x="826920" y="5805360"/>
            <a:ext cx="61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入力語を読み終えたとき受理状態に到達する遷移が可能なので，入力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は受理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262728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627280" y="2492280"/>
            <a:ext cx="504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6372360" y="981000"/>
            <a:ext cx="685440" cy="1067040"/>
            <a:chOff x="6372360" y="981000"/>
            <a:chExt cx="685440" cy="1067040"/>
          </a:xfrm>
        </p:grpSpPr>
        <p:sp>
          <p:nvSpPr>
            <p:cNvPr id="432" name=""/>
            <p:cNvSpPr/>
            <p:nvPr/>
          </p:nvSpPr>
          <p:spPr>
            <a:xfrm>
              <a:off x="6372360" y="981000"/>
              <a:ext cx="68544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6934680" y="1662120"/>
              <a:ext cx="10188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6300720" y="184464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437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1476360" y="189000"/>
                <a:ext cx="571176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111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3" name=""/>
          <p:cNvSpPr/>
          <p:nvPr/>
        </p:nvSpPr>
        <p:spPr>
          <a:xfrm>
            <a:off x="900000" y="1197000"/>
            <a:ext cx="2665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295360" y="1197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981160" y="1197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3059280" y="1341360"/>
                <a:ext cx="387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1760400" y="1300320"/>
                <a:ext cx="31752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2481120" y="1300320"/>
                <a:ext cx="31608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9" name=""/>
          <p:cNvSpPr/>
          <p:nvPr/>
        </p:nvSpPr>
        <p:spPr>
          <a:xfrm>
            <a:off x="826920" y="5300640"/>
            <a:ext cx="6840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同様に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入力語を読み終えたとき受理状態に到達する遷移が可能なので，入力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は受理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549440" y="12096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1041480" y="1300320"/>
                <a:ext cx="31752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2" name=""/>
          <p:cNvSpPr/>
          <p:nvPr/>
        </p:nvSpPr>
        <p:spPr>
          <a:xfrm flipV="1">
            <a:off x="3276720" y="191592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276720" y="2565360"/>
            <a:ext cx="718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924360" y="836640"/>
            <a:ext cx="489564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7164360" y="981000"/>
            <a:ext cx="685800" cy="1067040"/>
            <a:chOff x="7164360" y="981000"/>
            <a:chExt cx="685800" cy="1067040"/>
          </a:xfrm>
        </p:grpSpPr>
        <p:sp>
          <p:nvSpPr>
            <p:cNvPr id="466" name=""/>
            <p:cNvSpPr/>
            <p:nvPr/>
          </p:nvSpPr>
          <p:spPr>
            <a:xfrm>
              <a:off x="7164360" y="98100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7727400" y="1662120"/>
              <a:ext cx="10224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7093080" y="184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162920" y="1917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7236000" y="4510080"/>
            <a:ext cx="685800" cy="1066680"/>
            <a:chOff x="7236000" y="4510080"/>
            <a:chExt cx="685800" cy="1066680"/>
          </a:xfrm>
        </p:grpSpPr>
        <p:sp>
          <p:nvSpPr>
            <p:cNvPr id="471" name=""/>
            <p:cNvSpPr/>
            <p:nvPr/>
          </p:nvSpPr>
          <p:spPr>
            <a:xfrm>
              <a:off x="723600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727632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3" name=""/>
          <p:cNvSpPr/>
          <p:nvPr/>
        </p:nvSpPr>
        <p:spPr>
          <a:xfrm flipV="1">
            <a:off x="5506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43564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170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703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162920" y="38624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236000" y="393372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5794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"/>
              <p:cNvSpPr txBox="1"/>
              <p:nvPr/>
            </p:nvSpPr>
            <p:spPr>
              <a:xfrm>
                <a:off x="6802560" y="1054080"/>
                <a:ext cx="2919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7378560" y="4078440"/>
                <a:ext cx="3924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4889520" y="2827440"/>
                <a:ext cx="4539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7954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5867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7307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1403280" y="189000"/>
                <a:ext cx="57484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110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7" name=""/>
          <p:cNvSpPr/>
          <p:nvPr/>
        </p:nvSpPr>
        <p:spPr>
          <a:xfrm>
            <a:off x="900000" y="1197000"/>
            <a:ext cx="2665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295360" y="1197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981160" y="1197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3060720" y="1281240"/>
                <a:ext cx="387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1760400" y="1300320"/>
                <a:ext cx="31752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"/>
              <p:cNvSpPr txBox="1"/>
              <p:nvPr/>
            </p:nvSpPr>
            <p:spPr>
              <a:xfrm>
                <a:off x="2414520" y="1281240"/>
                <a:ext cx="4510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3" name=""/>
          <p:cNvSpPr/>
          <p:nvPr/>
        </p:nvSpPr>
        <p:spPr>
          <a:xfrm>
            <a:off x="971640" y="5877000"/>
            <a:ext cx="539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入力語を読み終えることができないので，入力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は拒否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549440" y="12096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1041480" y="1300320"/>
                <a:ext cx="31752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6" name=""/>
          <p:cNvSpPr/>
          <p:nvPr/>
        </p:nvSpPr>
        <p:spPr>
          <a:xfrm flipV="1">
            <a:off x="2627280" y="191592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627280" y="2565360"/>
            <a:ext cx="1368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924360" y="836640"/>
            <a:ext cx="489564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7164360" y="981000"/>
            <a:ext cx="685800" cy="1067040"/>
            <a:chOff x="7164360" y="981000"/>
            <a:chExt cx="685800" cy="1067040"/>
          </a:xfrm>
        </p:grpSpPr>
        <p:sp>
          <p:nvSpPr>
            <p:cNvPr id="500" name=""/>
            <p:cNvSpPr/>
            <p:nvPr/>
          </p:nvSpPr>
          <p:spPr>
            <a:xfrm>
              <a:off x="7164360" y="98100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7727400" y="1662120"/>
              <a:ext cx="10224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7093080" y="184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162920" y="1917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7236000" y="4510080"/>
            <a:ext cx="685800" cy="1066680"/>
            <a:chOff x="7236000" y="4510080"/>
            <a:chExt cx="685800" cy="1066680"/>
          </a:xfrm>
        </p:grpSpPr>
        <p:sp>
          <p:nvSpPr>
            <p:cNvPr id="505" name=""/>
            <p:cNvSpPr/>
            <p:nvPr/>
          </p:nvSpPr>
          <p:spPr>
            <a:xfrm>
              <a:off x="723600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727632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 flipV="1">
            <a:off x="5506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3564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170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703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162920" y="38624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236000" y="393372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5794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6802560" y="1054080"/>
                <a:ext cx="2919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7378560" y="4078440"/>
                <a:ext cx="3924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4889520" y="2827440"/>
                <a:ext cx="4539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7954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5867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7307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395280" y="5661000"/>
                <a:ext cx="814392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 </m:t>
                        </m:r>
                        <m:r>
                          <m:t xml:space="preserve">は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または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のみからなる語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ε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1" name=""/>
          <p:cNvSpPr/>
          <p:nvPr/>
        </p:nvSpPr>
        <p:spPr>
          <a:xfrm>
            <a:off x="324000" y="515772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な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50920" y="623736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050920" y="33336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5291280" y="477720"/>
            <a:ext cx="685440" cy="1067040"/>
            <a:chOff x="5291280" y="477720"/>
            <a:chExt cx="685440" cy="1067040"/>
          </a:xfrm>
        </p:grpSpPr>
        <p:sp>
          <p:nvSpPr>
            <p:cNvPr id="525" name=""/>
            <p:cNvSpPr/>
            <p:nvPr/>
          </p:nvSpPr>
          <p:spPr>
            <a:xfrm>
              <a:off x="5291280" y="477720"/>
              <a:ext cx="68544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5853600" y="1158840"/>
              <a:ext cx="10188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5219640" y="1341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289480" y="14144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5362560" y="4006800"/>
            <a:ext cx="685800" cy="1066680"/>
            <a:chOff x="5362560" y="4006800"/>
            <a:chExt cx="685800" cy="1066680"/>
          </a:xfrm>
        </p:grpSpPr>
        <p:sp>
          <p:nvSpPr>
            <p:cNvPr id="530" name=""/>
            <p:cNvSpPr/>
            <p:nvPr/>
          </p:nvSpPr>
          <p:spPr>
            <a:xfrm>
              <a:off x="5362560" y="40068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5402880" y="412344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" name=""/>
          <p:cNvSpPr/>
          <p:nvPr/>
        </p:nvSpPr>
        <p:spPr>
          <a:xfrm flipV="1">
            <a:off x="3633840" y="1846440"/>
            <a:ext cx="1584360" cy="57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62200" y="285444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297160" y="233856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830680" y="218592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289480" y="335916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362560" y="34304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3921120" y="177480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4929120" y="550800"/>
                <a:ext cx="29232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5505480" y="357516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3016080" y="232416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6081840" y="422280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3994200" y="263844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5433840" y="1487520"/>
                <a:ext cx="39564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476360" y="18900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空動作のある非決定性有限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050920" y="692280"/>
                <a:ext cx="41403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2" name=""/>
          <p:cNvGrpSpPr/>
          <p:nvPr/>
        </p:nvGrpSpPr>
        <p:grpSpPr>
          <a:xfrm>
            <a:off x="1116000" y="1341360"/>
            <a:ext cx="6400800" cy="609480"/>
            <a:chOff x="1116000" y="1341360"/>
            <a:chExt cx="6400800" cy="609480"/>
          </a:xfrm>
        </p:grpSpPr>
        <p:sp>
          <p:nvSpPr>
            <p:cNvPr id="73" name=""/>
            <p:cNvSpPr/>
            <p:nvPr/>
          </p:nvSpPr>
          <p:spPr>
            <a:xfrm>
              <a:off x="1116000" y="1341360"/>
              <a:ext cx="64008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1403280" y="1393560"/>
                  <a:ext cx="206064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p</m:t>
                          </m:r>
                          <m:r>
                            <m:t xml:space="preserve">,</m:t>
                          </m:r>
                          <m:r>
                            <m:t xml:space="preserve">q</m:t>
                          </m:r>
                          <m:r>
                            <m:t xml:space="preserve">,</m:t>
                          </m:r>
                          <m:r>
                            <m:t xml:space="preserve">r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5" name=""/>
          <p:cNvGrpSpPr/>
          <p:nvPr/>
        </p:nvGrpSpPr>
        <p:grpSpPr>
          <a:xfrm>
            <a:off x="1116000" y="1989000"/>
            <a:ext cx="6400800" cy="609840"/>
            <a:chOff x="1116000" y="1989000"/>
            <a:chExt cx="6400800" cy="609840"/>
          </a:xfrm>
        </p:grpSpPr>
        <p:sp>
          <p:nvSpPr>
            <p:cNvPr id="76" name=""/>
            <p:cNvSpPr/>
            <p:nvPr/>
          </p:nvSpPr>
          <p:spPr>
            <a:xfrm>
              <a:off x="1116000" y="1989000"/>
              <a:ext cx="640080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" name=""/>
                <p:cNvSpPr txBox="1"/>
                <p:nvPr/>
              </p:nvSpPr>
              <p:spPr>
                <a:xfrm>
                  <a:off x="1476360" y="1989000"/>
                  <a:ext cx="1584360" cy="57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0,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8" name=""/>
          <p:cNvGrpSpPr/>
          <p:nvPr/>
        </p:nvGrpSpPr>
        <p:grpSpPr>
          <a:xfrm>
            <a:off x="1116000" y="5013360"/>
            <a:ext cx="6400800" cy="685800"/>
            <a:chOff x="1116000" y="5013360"/>
            <a:chExt cx="6400800" cy="685800"/>
          </a:xfrm>
        </p:grpSpPr>
        <p:sp>
          <p:nvSpPr>
            <p:cNvPr id="79" name=""/>
            <p:cNvSpPr/>
            <p:nvPr/>
          </p:nvSpPr>
          <p:spPr>
            <a:xfrm>
              <a:off x="1116000" y="5013360"/>
              <a:ext cx="640080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" name=""/>
                <p:cNvSpPr txBox="1"/>
                <p:nvPr/>
              </p:nvSpPr>
              <p:spPr>
                <a:xfrm>
                  <a:off x="1619280" y="5013360"/>
                  <a:ext cx="11523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1" name=""/>
          <p:cNvGrpSpPr/>
          <p:nvPr/>
        </p:nvGrpSpPr>
        <p:grpSpPr>
          <a:xfrm>
            <a:off x="1116000" y="5805360"/>
            <a:ext cx="6400800" cy="609480"/>
            <a:chOff x="1116000" y="5805360"/>
            <a:chExt cx="6400800" cy="609480"/>
          </a:xfrm>
        </p:grpSpPr>
        <p:sp>
          <p:nvSpPr>
            <p:cNvPr id="82" name=""/>
            <p:cNvSpPr/>
            <p:nvPr/>
          </p:nvSpPr>
          <p:spPr>
            <a:xfrm>
              <a:off x="1116000" y="5805360"/>
              <a:ext cx="64008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1619280" y="5877000"/>
                  <a:ext cx="1657440" cy="47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q</m:t>
                          </m:r>
                          <m:r>
                            <m:t xml:space="preserve">,</m:t>
                          </m:r>
                          <m:r>
                            <m:t xml:space="preserve">r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4" name=""/>
          <p:cNvGrpSpPr/>
          <p:nvPr/>
        </p:nvGrpSpPr>
        <p:grpSpPr>
          <a:xfrm>
            <a:off x="1116000" y="2708280"/>
            <a:ext cx="6408720" cy="2230560"/>
            <a:chOff x="1116000" y="2708280"/>
            <a:chExt cx="6408720" cy="2230560"/>
          </a:xfrm>
        </p:grpSpPr>
        <p:sp>
          <p:nvSpPr>
            <p:cNvPr id="85" name=""/>
            <p:cNvSpPr/>
            <p:nvPr/>
          </p:nvSpPr>
          <p:spPr>
            <a:xfrm>
              <a:off x="1116000" y="2708280"/>
              <a:ext cx="6408720" cy="2230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" name=""/>
                <p:cNvSpPr txBox="1"/>
                <p:nvPr/>
              </p:nvSpPr>
              <p:spPr>
                <a:xfrm>
                  <a:off x="1908000" y="3429000"/>
                  <a:ext cx="5334120" cy="134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p</m:t>
                          </m:r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q</m:t>
                              </m:r>
                              <m:r>
                                <m:t xml:space="preserve">,</m:t>
                              </m:r>
                              <m:r>
                                <m:t xml:space="preserve">r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p</m:t>
                          </m:r>
                          <m:r>
                            <m:t xml:space="preserve">,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p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φ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q</m:t>
                          </m:r>
                          <m:r>
                            <m:t xml:space="preserve">,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q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q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q</m:t>
                          </m:r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φ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r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φ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7" name=""/>
                <p:cNvSpPr txBox="1"/>
                <p:nvPr/>
              </p:nvSpPr>
              <p:spPr>
                <a:xfrm>
                  <a:off x="1403280" y="2781360"/>
                  <a:ext cx="3960720" cy="58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Σ</m:t>
                      </m:r>
                      <m:r>
                        <m:t xml:space="preserve">∪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ε</m:t>
                          </m:r>
                        </m:e>
                      </m:d>
                      <m:r>
                        <m:t xml:space="preserve">)</m:t>
                      </m:r>
                      <m:r>
                        <m:t xml:space="preserve">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Q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5940360" y="4941720"/>
                <a:ext cx="2106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940360" y="4149720"/>
                <a:ext cx="2187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651640" y="2708280"/>
                <a:ext cx="30416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5796000" y="765000"/>
                <a:ext cx="24778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92" name=""/>
          <p:cNvGrpSpPr/>
          <p:nvPr/>
        </p:nvGrpSpPr>
        <p:grpSpPr>
          <a:xfrm>
            <a:off x="4284720" y="4869000"/>
            <a:ext cx="685800" cy="1066680"/>
            <a:chOff x="4284720" y="4869000"/>
            <a:chExt cx="685800" cy="1066680"/>
          </a:xfrm>
        </p:grpSpPr>
        <p:sp>
          <p:nvSpPr>
            <p:cNvPr id="93" name=""/>
            <p:cNvSpPr/>
            <p:nvPr/>
          </p:nvSpPr>
          <p:spPr>
            <a:xfrm>
              <a:off x="4284720" y="48690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4325040" y="498564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4211640" y="1341360"/>
            <a:ext cx="685800" cy="1067040"/>
            <a:chOff x="4211640" y="1341360"/>
            <a:chExt cx="685800" cy="1067040"/>
          </a:xfrm>
        </p:grpSpPr>
        <p:sp>
          <p:nvSpPr>
            <p:cNvPr id="96" name=""/>
            <p:cNvSpPr/>
            <p:nvPr/>
          </p:nvSpPr>
          <p:spPr>
            <a:xfrm>
              <a:off x="4211640" y="134136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4774680" y="2022480"/>
              <a:ext cx="10224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547640" y="404640"/>
                <a:ext cx="34038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 flipV="1">
            <a:off x="2556000" y="270792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484360" y="3716280"/>
            <a:ext cx="1727280" cy="792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32004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52480" y="30481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40360" y="22050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11640" y="422100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84720" y="42926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843280" y="263700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851280" y="1413000"/>
                <a:ext cx="2919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427640" y="443700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356000" y="234936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938240" y="3186000"/>
                <a:ext cx="45396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5003640" y="508464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916360" y="3500280"/>
                <a:ext cx="29340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4211640" y="2276640"/>
            <a:ext cx="6858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64000" y="549360"/>
            <a:ext cx="338472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940360" y="765000"/>
                <a:ext cx="138276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5435640" y="549360"/>
            <a:ext cx="338436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6156360" y="765000"/>
                <a:ext cx="19908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5508720" y="549360"/>
            <a:ext cx="3384360" cy="11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19640" y="2276640"/>
            <a:ext cx="3672000" cy="136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5940360" y="2781360"/>
                <a:ext cx="24735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q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5219640" y="2349360"/>
            <a:ext cx="3672000" cy="13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6012000" y="2781360"/>
                <a:ext cx="235080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5292720" y="2349360"/>
            <a:ext cx="3672000" cy="13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51640" y="4076640"/>
            <a:ext cx="3168360" cy="18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940360" y="4365720"/>
                <a:ext cx="20671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940360" y="5157720"/>
                <a:ext cx="2106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5580000" y="4076640"/>
            <a:ext cx="3168720" cy="19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6156360" y="4581360"/>
                <a:ext cx="22287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6156360" y="5373720"/>
                <a:ext cx="2187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5651640" y="4365720"/>
            <a:ext cx="3168360" cy="19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527120" y="227160"/>
                <a:ext cx="5564160" cy="59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00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9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140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370560" y="982800"/>
            <a:ext cx="685800" cy="1066680"/>
            <a:chOff x="6370560" y="982800"/>
            <a:chExt cx="685800" cy="1066680"/>
          </a:xfrm>
        </p:grpSpPr>
        <p:sp>
          <p:nvSpPr>
            <p:cNvPr id="143" name=""/>
            <p:cNvSpPr/>
            <p:nvPr/>
          </p:nvSpPr>
          <p:spPr>
            <a:xfrm>
              <a:off x="6370560" y="9828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6933240" y="1664280"/>
              <a:ext cx="102600" cy="28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99280" y="18464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684360" y="5805360"/>
                <a:ext cx="30416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4284720" y="595008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２通りの可能性あ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611280" y="5084640"/>
                <a:ext cx="21873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 flipV="1">
            <a:off x="125892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58920" y="2492280"/>
            <a:ext cx="1873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173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6370560" y="982800"/>
            <a:ext cx="685800" cy="1066680"/>
            <a:chOff x="6370560" y="982800"/>
            <a:chExt cx="685800" cy="1066680"/>
          </a:xfrm>
        </p:grpSpPr>
        <p:sp>
          <p:nvSpPr>
            <p:cNvPr id="176" name=""/>
            <p:cNvSpPr/>
            <p:nvPr/>
          </p:nvSpPr>
          <p:spPr>
            <a:xfrm>
              <a:off x="6370560" y="9828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6933240" y="1664280"/>
              <a:ext cx="102600" cy="28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299280" y="18464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5003640" y="227664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507672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 flipV="1">
            <a:off x="471636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572000" y="1125360"/>
            <a:ext cx="1224000" cy="648000"/>
            <a:chOff x="4572000" y="1125360"/>
            <a:chExt cx="1224000" cy="648000"/>
          </a:xfrm>
        </p:grpSpPr>
        <p:sp>
          <p:nvSpPr>
            <p:cNvPr id="198" name=""/>
            <p:cNvSpPr/>
            <p:nvPr/>
          </p:nvSpPr>
          <p:spPr>
            <a:xfrm>
              <a:off x="4572000" y="1125360"/>
              <a:ext cx="1224000" cy="648000"/>
            </a:xfrm>
            <a:prstGeom prst="wedgeRoundRectCallout">
              <a:avLst>
                <a:gd name="adj1" fmla="val 32750"/>
                <a:gd name="adj2" fmla="val 171078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660920" y="123660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4500720" y="4724280"/>
            <a:ext cx="1223640" cy="648000"/>
            <a:chOff x="4500720" y="4724280"/>
            <a:chExt cx="1223640" cy="648000"/>
          </a:xfrm>
        </p:grpSpPr>
        <p:sp>
          <p:nvSpPr>
            <p:cNvPr id="201" name=""/>
            <p:cNvSpPr/>
            <p:nvPr/>
          </p:nvSpPr>
          <p:spPr>
            <a:xfrm>
              <a:off x="4500720" y="4724280"/>
              <a:ext cx="1223640" cy="648000"/>
            </a:xfrm>
            <a:prstGeom prst="wedgeRoundRectCallout">
              <a:avLst>
                <a:gd name="adj1" fmla="val 37810"/>
                <a:gd name="adj2" fmla="val -194851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572000" y="479736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826920" y="260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125892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58920" y="2492280"/>
            <a:ext cx="1873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214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6370560" y="982800"/>
            <a:ext cx="685800" cy="1066680"/>
            <a:chOff x="6370560" y="982800"/>
            <a:chExt cx="685800" cy="1066680"/>
          </a:xfrm>
        </p:grpSpPr>
        <p:sp>
          <p:nvSpPr>
            <p:cNvPr id="217" name=""/>
            <p:cNvSpPr/>
            <p:nvPr/>
          </p:nvSpPr>
          <p:spPr>
            <a:xfrm>
              <a:off x="6370560" y="9828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6933240" y="1664280"/>
              <a:ext cx="102600" cy="288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299280" y="18464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826920" y="5877000"/>
                <a:ext cx="24735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q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826920" y="5877000"/>
                <a:ext cx="24735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q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 flipV="1">
            <a:off x="197964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79640" y="2492280"/>
            <a:ext cx="1152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246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6370560" y="982800"/>
            <a:ext cx="685800" cy="1066680"/>
            <a:chOff x="6370560" y="982800"/>
            <a:chExt cx="685800" cy="1066680"/>
          </a:xfrm>
        </p:grpSpPr>
        <p:sp>
          <p:nvSpPr>
            <p:cNvPr id="249" name=""/>
            <p:cNvSpPr/>
            <p:nvPr/>
          </p:nvSpPr>
          <p:spPr>
            <a:xfrm>
              <a:off x="6370560" y="9828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6933240" y="1664280"/>
              <a:ext cx="102600" cy="288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299280" y="18464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2" name=""/>
          <p:cNvSpPr/>
          <p:nvPr/>
        </p:nvSpPr>
        <p:spPr>
          <a:xfrm flipV="1">
            <a:off x="255600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556000" y="2492280"/>
            <a:ext cx="57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276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6370560" y="982800"/>
            <a:ext cx="685800" cy="1066680"/>
            <a:chOff x="6370560" y="982800"/>
            <a:chExt cx="685800" cy="1066680"/>
          </a:xfrm>
        </p:grpSpPr>
        <p:sp>
          <p:nvSpPr>
            <p:cNvPr id="279" name=""/>
            <p:cNvSpPr/>
            <p:nvPr/>
          </p:nvSpPr>
          <p:spPr>
            <a:xfrm>
              <a:off x="6370560" y="9828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6933240" y="1664280"/>
              <a:ext cx="102600" cy="28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99280" y="18464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26920" y="5950080"/>
            <a:ext cx="66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入力語を読み終えて，受理状態に遷移し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6372360" y="981000"/>
            <a:ext cx="685440" cy="1067040"/>
            <a:chOff x="6372360" y="981000"/>
            <a:chExt cx="685440" cy="1067040"/>
          </a:xfrm>
        </p:grpSpPr>
        <p:sp>
          <p:nvSpPr>
            <p:cNvPr id="299" name=""/>
            <p:cNvSpPr/>
            <p:nvPr/>
          </p:nvSpPr>
          <p:spPr>
            <a:xfrm>
              <a:off x="6372360" y="981000"/>
              <a:ext cx="68544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6934680" y="1662120"/>
              <a:ext cx="10188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6300720" y="1844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755640" y="5805360"/>
                <a:ext cx="2106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0" name=""/>
          <p:cNvSpPr/>
          <p:nvPr/>
        </p:nvSpPr>
        <p:spPr>
          <a:xfrm>
            <a:off x="3492360" y="5950080"/>
            <a:ext cx="37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これ以上，遷移でき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125892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258920" y="2492280"/>
            <a:ext cx="1873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26920" y="26028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315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08:12:54Z</dcterms:created>
  <dc:creator>米田政明</dc:creator>
  <dc:description/>
  <dc:language>en-US</dc:language>
  <cp:lastModifiedBy>政明</cp:lastModifiedBy>
  <dcterms:modified xsi:type="dcterms:W3CDTF">2004-10-11T16:32:05Z</dcterms:modified>
  <cp:revision>30</cp:revision>
  <dc:subject/>
  <dc:title>PowerPoint プレゼンテーション</dc:title>
</cp:coreProperties>
</file>